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FEA-F40C-4FC8-AD5C-A6B49D71F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DB36-EBFB-486B-8835-3A1B3B46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3F778-6D86-4171-9F06-3C868385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3963F-A881-4AC6-835C-29D8F527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D3227-560E-4B7B-9507-65F14C72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3BA5E-F5D2-4BD7-BBF7-C6C314BB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C30EB-A48F-4E46-85C2-873E49FF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4E454-430A-4B15-89A2-EBF1B4FF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B4171-4C4B-4DD0-861E-48843255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18D39-106B-4529-B35E-8DEB7F92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7F701-94AA-48F6-A624-207606BB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9EE0-F2F8-4363-B47B-7D96B42F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DDE8-7559-42A4-93DB-B01F5B04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0D61-4C7F-4DDF-B619-6857934F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EA103-0E98-4F44-A8BA-44074014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62AFA-A674-435A-B696-277C1B51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4114-6AAB-431C-B9AA-64FE64F1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2D561-0698-46DF-8F81-8C68DEBA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35E4-67D0-4839-AA6D-4EFED5B6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6B314-AD94-40C1-94EB-B45E9004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4787-DDB3-4DD1-8E29-234D22D7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3972B-ABE5-4D27-864E-288686DA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FE94-13A8-4F87-BAFC-13757559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B98E2-7FD8-4E8B-93BC-C2CB3BE8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624B-6110-4782-BD92-78B3EBD5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6166-59D3-40FE-AAF8-2B6B911D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EE807-5DA3-4BD6-B6C3-705DC0E3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AF342-51C4-4078-A41C-D3111C3C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ADDA0-ED2B-450D-908B-DABFE4B28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070D0-1FF0-4281-A0A3-301EE902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6379-960A-41ED-95B6-A8FDC4A7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B089-E2C6-4521-9BCF-7FB20F78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F2AFC-FA05-439B-B76A-606367F8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9CB20-C634-444C-B7CD-E99EDBE1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364C-5AE5-437C-8221-56518C42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CCEA-7EE0-4BF1-801B-CD16BD0A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5D35C-DB3E-4D9F-BF8E-C853C1538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F045A-AD17-4139-9DF9-5EE0F351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0A6CE-2E20-4B78-8A80-D86D0705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42EEA-0E62-41AB-A298-92BBC3E5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6AE0F-2804-49AB-B3F4-27B0AFFE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16DCE-5E68-4FB6-9E6A-D165E56D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D579-D8BB-4BF7-9019-3856F859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335A5-B8FD-454E-922A-D299843B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59AF8-201E-4E59-902E-03C9C92BA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D2BCF-04F2-4192-8C43-E03D8258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1835C-A2EE-4650-93E4-0753290D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E8809B-2233-459D-81C1-7AE0FEF0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3F907-9D07-4156-B384-7FB6127D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632C4-2128-4955-A63F-BBB0E7D8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BE9F4-EF1D-4B80-A535-72EA9C4D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B3F63-C2CB-4763-8CE9-F980699A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9480F-0E71-46BB-85FC-D411C0E8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31B-0410-4548-9993-B0412D4F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CA79D-BF64-4B0C-B639-FB294D30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7C6A-7F72-494F-990C-8BF61B03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52BF8-9817-425C-80AC-EB9EA87A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1FA89-296F-4A4C-892D-2959F8C6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EE2B0-6270-486A-B969-08F99649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A3721-3847-43E5-AAC5-CD956B20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1CC0D-2048-4672-BEF2-170F9909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7785E-0BBF-419E-BC23-8406E861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43820-BA6E-41B9-B176-BF3A365F9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2DF9F-D97F-4FC3-9665-9888CBDD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6E98-3A57-47FE-B1D7-14882D9F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7F174-94D6-4C0E-9574-D1C3ECF0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9B6E5-20F6-4B24-AF84-73F860E9E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C1F35-6662-4A80-A8BB-80D78C78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238C2-65DF-433C-B718-8C1CCC9C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7DF18-C6E0-45A0-BB1D-7D9FB3E03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CDA4B-CE5B-47EA-BA2F-CFCD1AA2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40C04-B62B-48C4-AC6F-ECCD0B42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F8698-3B7C-40A0-BEC3-D01ECD45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321F9-12BD-45EC-98D5-789D2914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69E5C-BD4D-47CE-88E2-F0690B82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B7AE-F427-48A7-8CDB-C52418F1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A6DE5-2D5B-4DD7-85FE-4B65A198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CCDD0-1299-437B-8981-4DF13D0F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23DE3-39FA-43C1-AF0D-946F557C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2B27C-2EE1-40AB-B47C-3FF2D0B4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F8D3C-D026-452E-ABA1-F3AE3C62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CCE59-4609-4DDA-9325-3F2BE648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621B82-FAF5-43DE-9DA3-25EFE9A7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7D764-111C-4C51-8373-65AF7E33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A0D84-3AE7-4ED7-B2AC-38FB77EF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734AA-14A3-4D7C-BF65-D9493DF3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7DB-7DDC-4B74-B297-8BB9D5C7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FEDE0-552B-4524-9688-90FA000A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BE4C5-4F2D-4C78-B534-29F8EE1E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2999D-8541-40AF-976B-4AB55A70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98CE6-64CD-4BBF-A70D-A6697293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D2257-13D4-4006-AC7B-2DD2CF34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B180F-AF5B-41FC-85F6-24FCF949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CF49E-E9D8-476C-9ED6-06063F66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AB3ECE-8C1B-47C7-A70D-35A06D1B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806A31-1B4D-4B07-9681-3A794575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0FF61-F06A-48E0-ADB7-78FEF755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C32-6F50-4CA8-9458-C3D2AA78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5281A-EE28-44BA-AD6E-E2BD44D4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76605-C4F2-4027-B600-702079E6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62356D-806C-434C-B6BC-D2609465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469F1-3833-440B-99AD-16D47E85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C1927-79FE-44A9-BF35-A4F09F82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82B9A-95CE-42B9-98A6-7C62604B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480E09-DA2E-4212-AD2A-DF895335A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16FCD-578C-4B30-8370-1F69420A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573DE-5E8C-4729-BC78-3447372E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13AE6-B8E7-4612-A834-85A5E7DD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6B06-1C30-41D8-9849-A9C1C95990DC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5800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66DC-A5F1-4A42-A67F-9FA523069E47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A0C2-FA12-4F90-B314-60D9FBD5C6A3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D5E9-7AA2-4371-8215-9735AC8BECC2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490E-15B9-4302-BEB7-E52D2C78F536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7A66-4334-4DA1-BDB3-90CEDDBBF902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9B60-4921-4927-9E42-35385A74DE94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7953-6D55-48BF-9C5B-4A4A001FC174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DDCB-FF77-4A57-A562-73D1A06CA268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028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Book Antiqua"/>
              </a:rPr>
              <a:t>JESÚS GONZÁLEZ PÉREZ&amp;JULIO VILLALBA MELGUIZO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85440" y="2209320"/>
            <a:ext cx="77468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La empresa se llamará «NATURALCAMP»,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destinada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a la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ocupación del tiempo libre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y la </a:t>
            </a:r>
            <a:r>
              <a:rPr b="0" lang="es-ES" sz="2400" spc="-1" strike="noStrike">
                <a:solidFill>
                  <a:srgbClr val="00b050"/>
                </a:solidFill>
                <a:latin typeface="Book Antiqua"/>
              </a:rPr>
              <a:t>amenización de la estancia de los usuarios en los campings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de veran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Nos encargaremos de </a:t>
            </a:r>
            <a:r>
              <a:rPr b="0" lang="es-ES" sz="2400" spc="-1" strike="noStrike">
                <a:solidFill>
                  <a:srgbClr val="7030a0"/>
                </a:solidFill>
                <a:latin typeface="Book Antiqua"/>
              </a:rPr>
              <a:t>llevar a cabo todas la actividades propuesta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c00000"/>
                </a:solidFill>
                <a:latin typeface="Book Antiqua"/>
              </a:rPr>
              <a:t>gestionar la empresa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ffc000"/>
                </a:solidFill>
                <a:latin typeface="Book Antiqua"/>
              </a:rPr>
              <a:t>adquirir material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buscar ayudas económica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y </a:t>
            </a:r>
            <a:r>
              <a:rPr b="0" lang="es-ES" sz="2400" spc="-1" strike="noStrike">
                <a:solidFill>
                  <a:srgbClr val="00b0f0"/>
                </a:solidFill>
                <a:latin typeface="Book Antiqua"/>
              </a:rPr>
              <a:t>la publicida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INTRODUC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28" name="Imagen 4" descr=""/>
          <p:cNvPicPr/>
          <p:nvPr/>
        </p:nvPicPr>
        <p:blipFill>
          <a:blip r:embed="rId1"/>
          <a:stretch/>
        </p:blipFill>
        <p:spPr>
          <a:xfrm>
            <a:off x="7729560" y="0"/>
            <a:ext cx="1432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Book Antiqua"/>
              </a:rPr>
              <a:t>¿Por que?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Ante la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crisis económica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que estamos atravesando </a:t>
            </a:r>
            <a:r>
              <a:rPr b="0" lang="es-ES" sz="2400" spc="-1" strike="noStrike">
                <a:solidFill>
                  <a:srgbClr val="ffc000"/>
                </a:solidFill>
                <a:latin typeface="Book Antiqua"/>
              </a:rPr>
              <a:t>ir de vacaciones de camping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es una de las maneras </a:t>
            </a:r>
            <a:r>
              <a:rPr b="0" lang="es-ES" sz="2400" spc="-1" strike="noStrike">
                <a:solidFill>
                  <a:srgbClr val="00b0f0"/>
                </a:solidFill>
                <a:latin typeface="Book Antiqua"/>
              </a:rPr>
              <a:t>mas económicas para la socieda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b050"/>
                </a:solidFill>
                <a:latin typeface="Book Antiqua"/>
              </a:rPr>
              <a:t>El motivo: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030a0"/>
                </a:solidFill>
                <a:latin typeface="Book Antiqua"/>
              </a:rPr>
              <a:t>Falta de recursos y actividades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con las que cuenta el </a:t>
            </a:r>
            <a:r>
              <a:rPr b="0" lang="es-ES" sz="2400" spc="-1" strike="noStrike">
                <a:solidFill>
                  <a:srgbClr val="d0be40"/>
                </a:solidFill>
                <a:latin typeface="Book Antiqua"/>
              </a:rPr>
              <a:t>camping de Arcos de la frontera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JUSTIFICA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31" name="Imagen 4" descr=""/>
          <p:cNvPicPr/>
          <p:nvPr/>
        </p:nvPicPr>
        <p:blipFill>
          <a:blip r:embed="rId1"/>
          <a:stretch/>
        </p:blipFill>
        <p:spPr>
          <a:xfrm>
            <a:off x="7726320" y="0"/>
            <a:ext cx="1432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98400" y="2247480"/>
            <a:ext cx="77472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1.-Ofrecer un </a:t>
            </a:r>
            <a:r>
              <a:rPr b="0" lang="es-ES" sz="2400" spc="-1" strike="noStrike">
                <a:solidFill>
                  <a:srgbClr val="c00000"/>
                </a:solidFill>
                <a:latin typeface="Book Antiqua"/>
              </a:rPr>
              <a:t>servicio de calida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2.-</a:t>
            </a:r>
            <a:r>
              <a:rPr b="0" lang="es-ES" sz="2400" spc="-1" strike="noStrike">
                <a:solidFill>
                  <a:srgbClr val="ffc000"/>
                </a:solidFill>
                <a:latin typeface="Book Antiqua"/>
              </a:rPr>
              <a:t>Elevar los niveles de afluencia de client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al camping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3.-Ofrecer un </a:t>
            </a:r>
            <a:r>
              <a:rPr b="0" lang="es-ES" sz="2400" spc="-1" strike="noStrike">
                <a:solidFill>
                  <a:srgbClr val="ffff00"/>
                </a:solidFill>
                <a:latin typeface="Book Antiqua"/>
              </a:rPr>
              <a:t>servicio integro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4.-Facilitar la </a:t>
            </a:r>
            <a:r>
              <a:rPr b="0" lang="es-ES" sz="2400" spc="-1" strike="noStrike">
                <a:solidFill>
                  <a:srgbClr val="92d050"/>
                </a:solidFill>
                <a:latin typeface="Book Antiqua"/>
              </a:rPr>
              <a:t>integración mediante actividad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5.-Fomentar </a:t>
            </a:r>
            <a:r>
              <a:rPr b="0" lang="es-ES" sz="2400" spc="-1" strike="noStrike">
                <a:solidFill>
                  <a:srgbClr val="ff0000"/>
                </a:solidFill>
                <a:latin typeface="Book Antiqua"/>
              </a:rPr>
              <a:t>hábitos de higiene y salud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6.-</a:t>
            </a:r>
            <a:r>
              <a:rPr b="0" lang="es-ES" sz="2400" spc="-1" strike="noStrike">
                <a:solidFill>
                  <a:srgbClr val="00b0f0"/>
                </a:solidFill>
                <a:latin typeface="Book Antiqua"/>
              </a:rPr>
              <a:t>Respetar el entorno natural 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donde esta el camping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7.-Dar a conocer </a:t>
            </a:r>
            <a:r>
              <a:rPr b="0" lang="es-ES" sz="2400" spc="-1" strike="noStrike">
                <a:solidFill>
                  <a:srgbClr val="7030a0"/>
                </a:solidFill>
                <a:latin typeface="Book Antiqua"/>
              </a:rPr>
              <a:t>deportes colectivos e individuales diferentes a los habituales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8.-</a:t>
            </a:r>
            <a:r>
              <a:rPr b="0" lang="es-ES" sz="2400" spc="-1" strike="noStrike">
                <a:solidFill>
                  <a:srgbClr val="000000"/>
                </a:solidFill>
                <a:latin typeface="Book Antiqua"/>
              </a:rPr>
              <a:t>Inculcar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 a los usuarios los </a:t>
            </a:r>
            <a:r>
              <a:rPr b="0" lang="es-ES" sz="2400" spc="-1" strike="noStrike">
                <a:solidFill>
                  <a:srgbClr val="0070c0"/>
                </a:solidFill>
                <a:latin typeface="Book Antiqua"/>
              </a:rPr>
              <a:t>valores de compañerismo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, </a:t>
            </a:r>
            <a:r>
              <a:rPr b="0" lang="es-ES" sz="2400" spc="-1" strike="noStrike">
                <a:solidFill>
                  <a:srgbClr val="0070c0"/>
                </a:solidFill>
                <a:latin typeface="Book Antiqua"/>
              </a:rPr>
              <a:t>amistad, respeto a sus compañeros y rivales, disciplina y juego en equipo</a:t>
            </a: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OBJETIVOS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34" name="Imagen 4" descr=""/>
          <p:cNvPicPr/>
          <p:nvPr/>
        </p:nvPicPr>
        <p:blipFill>
          <a:blip r:embed="rId1"/>
          <a:stretch/>
        </p:blipFill>
        <p:spPr>
          <a:xfrm>
            <a:off x="7711920" y="17640"/>
            <a:ext cx="143208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ZONA DE ACTUACIÓN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98400" y="2247840"/>
            <a:ext cx="77472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Book Antiqua"/>
              </a:rPr>
              <a:t>Norte: Espera y Bornos. </a:t>
            </a:r>
            <a:r>
              <a:rPr b="0" lang="es-ES" sz="1400" spc="-1" strike="noStrike">
                <a:solidFill>
                  <a:srgbClr val="ffc000"/>
                </a:solidFill>
                <a:latin typeface="Book Antiqua"/>
              </a:rPr>
              <a:t>Noroeste: Villamartin. </a:t>
            </a:r>
            <a:r>
              <a:rPr b="0" lang="es-ES" sz="1400" spc="-1" strike="noStrike">
                <a:solidFill>
                  <a:srgbClr val="ffff00"/>
                </a:solidFill>
                <a:latin typeface="Book Antiqua"/>
              </a:rPr>
              <a:t>Este: El Bosque y Prado del Rey. </a:t>
            </a:r>
            <a:r>
              <a:rPr b="0" lang="es-ES" sz="1400" spc="-1" strike="noStrike">
                <a:solidFill>
                  <a:srgbClr val="00b050"/>
                </a:solidFill>
                <a:latin typeface="Book Antiqua"/>
              </a:rPr>
              <a:t>Sureste: Benaocaz y Ubrique. </a:t>
            </a:r>
            <a:r>
              <a:rPr b="0" lang="es-ES" sz="1400" spc="-1" strike="noStrike">
                <a:solidFill>
                  <a:srgbClr val="00b0f0"/>
                </a:solidFill>
                <a:latin typeface="Book Antiqua"/>
              </a:rPr>
              <a:t>Sur: Algar y San José del Valle. </a:t>
            </a:r>
            <a:r>
              <a:rPr b="0" lang="es-ES" sz="1400" spc="-1" strike="noStrike">
                <a:solidFill>
                  <a:srgbClr val="7030a0"/>
                </a:solidFill>
                <a:latin typeface="Book Antiqua"/>
              </a:rPr>
              <a:t>Oeste: Jerez de la Frontera.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  <p:pic>
        <p:nvPicPr>
          <p:cNvPr id="437" name="Imagen 6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8915400" cy="4038480"/>
          </a:xfrm>
          <a:prstGeom prst="rect">
            <a:avLst/>
          </a:prstGeom>
          <a:ln w="0">
            <a:noFill/>
          </a:ln>
        </p:spPr>
      </p:pic>
      <p:pic>
        <p:nvPicPr>
          <p:cNvPr id="438" name="Imagen 5" descr=""/>
          <p:cNvPicPr/>
          <p:nvPr/>
        </p:nvPicPr>
        <p:blipFill>
          <a:blip r:embed="rId2"/>
          <a:stretch/>
        </p:blipFill>
        <p:spPr>
          <a:xfrm>
            <a:off x="7686720" y="22320"/>
            <a:ext cx="143172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DESCRIPCIÓN DEL PROGRAMA DE ACTIVIDAD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40" name="Imagen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858000" cy="3504960"/>
          </a:xfrm>
          <a:prstGeom prst="rect">
            <a:avLst/>
          </a:prstGeom>
          <a:ln w="0">
            <a:noFill/>
          </a:ln>
        </p:spPr>
      </p:pic>
      <p:pic>
        <p:nvPicPr>
          <p:cNvPr id="441" name="Imagen 4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4651200"/>
          </a:xfrm>
          <a:prstGeom prst="rect">
            <a:avLst/>
          </a:prstGeom>
          <a:ln w="0">
            <a:noFill/>
          </a:ln>
        </p:spPr>
      </p:pic>
      <p:pic>
        <p:nvPicPr>
          <p:cNvPr id="442" name="Imagen 5" descr=""/>
          <p:cNvPicPr/>
          <p:nvPr/>
        </p:nvPicPr>
        <p:blipFill>
          <a:blip r:embed="rId3"/>
          <a:stretch/>
        </p:blipFill>
        <p:spPr>
          <a:xfrm>
            <a:off x="7711920" y="30240"/>
            <a:ext cx="1432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RECURSOS HUMAN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44" name="Imagen 4" descr=""/>
          <p:cNvPicPr/>
          <p:nvPr/>
        </p:nvPicPr>
        <p:blipFill>
          <a:blip r:embed="rId1"/>
          <a:stretch/>
        </p:blipFill>
        <p:spPr>
          <a:xfrm>
            <a:off x="7738920" y="0"/>
            <a:ext cx="1432080" cy="1165320"/>
          </a:xfrm>
          <a:prstGeom prst="rect">
            <a:avLst/>
          </a:prstGeom>
          <a:ln w="0">
            <a:noFill/>
          </a:ln>
        </p:spPr>
      </p:pic>
      <p:pic>
        <p:nvPicPr>
          <p:cNvPr id="445" name="Imagen 5" descr=""/>
          <p:cNvPicPr/>
          <p:nvPr/>
        </p:nvPicPr>
        <p:blipFill>
          <a:blip r:embed="rId2"/>
          <a:stretch/>
        </p:blipFill>
        <p:spPr>
          <a:xfrm>
            <a:off x="34920" y="2286000"/>
            <a:ext cx="894564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INSTALACION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48" name="Imagen 4" descr=""/>
          <p:cNvPicPr/>
          <p:nvPr/>
        </p:nvPicPr>
        <p:blipFill>
          <a:blip r:embed="rId1"/>
          <a:stretch/>
        </p:blipFill>
        <p:spPr>
          <a:xfrm>
            <a:off x="7721640" y="0"/>
            <a:ext cx="14317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PROMOCIÓN Y DIFUSIÓN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51" name="Imagen 4" descr=""/>
          <p:cNvPicPr/>
          <p:nvPr/>
        </p:nvPicPr>
        <p:blipFill>
          <a:blip r:embed="rId1"/>
          <a:stretch/>
        </p:blipFill>
        <p:spPr>
          <a:xfrm>
            <a:off x="7711920" y="0"/>
            <a:ext cx="1432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ose</dc:creator>
  <dc:description/>
  <dc:language>en-US</dc:language>
  <cp:lastModifiedBy>JGP</cp:lastModifiedBy>
  <dcterms:modified xsi:type="dcterms:W3CDTF">2010-05-25T21:23:39Z</dcterms:modified>
  <cp:revision>28</cp:revision>
  <dc:subject/>
  <dc:title>NATURALCAMP</dc:title>
</cp:coreProperties>
</file>